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9EA-44B8-4955-9E31-94F7E87E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BC3-190D-48D5-984E-68F6F5EC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BDB-0E5A-4C54-8BB7-FE8C4845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D1D-F628-4AE1-BD45-FA6F6E41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3140-CC67-4D0A-96C9-E03F4AE3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A7BC-DFE7-4CB4-9100-6459D6E9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5F14-A087-486E-AFE5-CBEDB926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8346-6D85-4DBD-8729-C7C108EF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5EFA-C208-4978-9B94-B83D3B39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5BA5-63A7-46EA-B6E1-1EF850F5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554B-B40A-41C3-9666-E7BC8B63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7B9-D685-4A0F-B948-359A0A66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7283-85EE-45C0-B1EA-22D73E03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514E-E1F0-4816-9425-0BFBE6F4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DAEF-47A7-4AF7-9F1D-3529E79E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B945-4F96-4090-8A22-0645164C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9EF2-DE95-471F-B472-AC01B0DD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CE5-5196-4364-BF14-32112403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A07-4469-41AB-A9D2-94207A19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2F6-7B4A-4955-B284-87114C2E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913-8B89-4471-A477-439AB375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260-CB1D-43FA-B270-8C681696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81D-2BBF-44A4-B5A3-3275F8DE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DAC-1442-4FA6-9ECE-ED6CD844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964E-0213-498E-811C-F2A9043021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BDDE-4D40-49B5-A3F5-65397FC306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212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214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formula represents an organic compoun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 Mg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2. NaCl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3. 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1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4. 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</a:t>
            </a:r>
            <a:r>
              <a:rPr b="0" lang="en-US" sz="5400" spc="-1" strike="noStrike" baseline="-25000">
                <a:solidFill>
                  <a:srgbClr val="ccecff"/>
                </a:solidFill>
                <a:latin typeface="Arial"/>
              </a:rPr>
              <a:t>12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</a:t>
            </a:r>
            <a:r>
              <a:rPr b="0" lang="en-US" sz="5400" spc="-1" strike="noStrike" baseline="-25000">
                <a:solidFill>
                  <a:srgbClr val="ccecff"/>
                </a:solidFill>
                <a:latin typeface="Arial"/>
              </a:rPr>
              <a:t>22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O</a:t>
            </a:r>
            <a:r>
              <a:rPr b="0" lang="en-US" sz="5400" spc="-1" strike="noStrike" baseline="-25000">
                <a:solidFill>
                  <a:srgbClr val="ccecff"/>
                </a:solidFill>
                <a:latin typeface="Arial"/>
              </a:rPr>
              <a:t>11 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31:33Z</dcterms:created>
  <dc:creator>WaiverDay</dc:creator>
  <dc:description/>
  <dc:language>en-US</dc:language>
  <cp:lastModifiedBy>PritchaJ</cp:lastModifiedBy>
  <dcterms:modified xsi:type="dcterms:W3CDTF">2011-06-01T13:57:38Z</dcterms:modified>
  <cp:revision>2</cp:revision>
  <dc:subject/>
  <dc:title>Biochemistry Bellringer #2</dc:title>
</cp:coreProperties>
</file>